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5AB9-332C-4AC9-ACB3-2FBE32DB5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FE36-7BBE-4929-B08E-BAF771E69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8EDA-48B0-48DB-8C72-2ACB735A3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8C1E-C6C8-464B-8D63-A5B736EF0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406B-6967-4FC4-97E6-9FD74A232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DC40-6274-4A74-9F56-901D1A3DE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60C4-328D-4CBC-B4B1-414DEE878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DCAF-C13E-4A40-8E27-9CC57AC91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DA64-9CA2-4597-A542-7F877EAAC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EC75-F003-4ADA-B6EC-538D0067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ED16-F178-4907-AC0B-8AA32749E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A56F-E21D-4A63-BA5B-EA077169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18120-70A8-478E-B50B-5FD75A95564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0560" y="1785600"/>
            <a:ext cx="8893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性别：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年龄：</a:t>
            </a:r>
            <a:r>
              <a:rPr b="1" lang="en-US" sz="1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国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毕业院校及学历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海外工作机构及职务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海外主要工作经历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214200" y="28584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英文名</a:t>
            </a:r>
            <a:r>
              <a:rPr b="1" lang="en-US" sz="3700" spc="-1" strike="noStrike">
                <a:solidFill>
                  <a:srgbClr val="0070c0"/>
                </a:solidFill>
                <a:latin typeface="宋体"/>
              </a:rPr>
              <a:t> </a:t>
            </a: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英文姓（中文姓名）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24000" y="3141720"/>
          <a:ext cx="8377200" cy="2278080"/>
        </p:xfrm>
        <a:graphic>
          <a:graphicData uri="http://schemas.openxmlformats.org/drawingml/2006/table">
            <a:tbl>
              <a:tblPr/>
              <a:tblGrid>
                <a:gridCol w="2687760"/>
                <a:gridCol w="768240"/>
                <a:gridCol w="457200"/>
                <a:gridCol w="766800"/>
                <a:gridCol w="647640"/>
                <a:gridCol w="144360"/>
                <a:gridCol w="2905200"/>
              </a:tblGrid>
              <a:tr h="277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职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时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国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单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09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86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01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44" name="TextBox 6"/>
          <p:cNvSpPr/>
          <p:nvPr/>
        </p:nvSpPr>
        <p:spPr>
          <a:xfrm>
            <a:off x="7000920" y="714240"/>
            <a:ext cx="1500120" cy="20142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428760" y="214200"/>
            <a:ext cx="550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附件四     评审演示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模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4"/>
          <p:cNvSpPr/>
          <p:nvPr/>
        </p:nvSpPr>
        <p:spPr>
          <a:xfrm>
            <a:off x="539640" y="1197000"/>
            <a:ext cx="727236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项目单位及拟任职务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专项特长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500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字以内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4"/>
          <p:cNvSpPr/>
          <p:nvPr/>
        </p:nvSpPr>
        <p:spPr>
          <a:xfrm>
            <a:off x="539640" y="1557360"/>
            <a:ext cx="30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项目单位评价</a:t>
            </a:r>
            <a:r>
              <a:rPr b="1" lang="en-US" sz="1800" spc="-1" strike="noStrike">
                <a:solidFill>
                  <a:srgbClr val="cc3300"/>
                </a:solidFill>
                <a:latin typeface="黑体"/>
                <a:ea typeface="黑体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350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字以内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8"/>
          <p:cNvSpPr/>
          <p:nvPr/>
        </p:nvSpPr>
        <p:spPr>
          <a:xfrm>
            <a:off x="920520" y="549360"/>
            <a:ext cx="13086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单位评价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4"/>
          <p:cNvSpPr/>
          <p:nvPr/>
        </p:nvSpPr>
        <p:spPr>
          <a:xfrm>
            <a:off x="539640" y="1700280"/>
            <a:ext cx="410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评审专家评价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539640" y="549360"/>
            <a:ext cx="21607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专家评价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8T01:36:42Z</dcterms:created>
  <dc:creator>Administrator</dc:creator>
  <dc:description/>
  <dc:language>en-US</dc:language>
  <cp:lastModifiedBy>User</cp:lastModifiedBy>
  <dcterms:modified xsi:type="dcterms:W3CDTF">2013-06-28T01:53:00Z</dcterms:modified>
  <cp:revision>1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